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13CD-C1B1-41F2-8902-667307F30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3EB7-2ABF-4D3F-864F-1C2144E54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2ABA-836B-4830-8E35-D558536B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53A1-EB5D-47C0-9B67-2DB7538E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377-F280-4E4D-8094-E02FA8D3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6DD-6035-4AB0-928A-77F271FC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439F-B375-4CF0-A55B-0FE837CD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B78-4421-4090-B98F-F8EC98B3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812-98BD-4DA0-B724-13B58969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436-B697-42CB-8AE8-90952F07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54F1-1B83-4576-9C05-F46864FE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963-B812-4023-88F8-E623F7B9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F7B-3B27-4388-92C5-D04629D8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FD0-E9B8-4CFC-B9CB-9980AB6B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B061-530E-4E47-B14D-C019B1041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Polo Tournament in Shandur, Pakistan Photo"/>
          <p:cNvPicPr/>
          <p:nvPr/>
        </p:nvPicPr>
        <p:blipFill>
          <a:blip r:embed="rId1"/>
          <a:stretch/>
        </p:blipFill>
        <p:spPr>
          <a:xfrm>
            <a:off x="-19080" y="2651040"/>
            <a:ext cx="2476440" cy="224496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2819520" y="0"/>
            <a:ext cx="3657600" cy="39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eestyle Script"/>
              </a:rPr>
              <a:t>Pakist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eestyle Script"/>
              </a:rPr>
              <a:t>Description : In 1947, as British rule came to an end in India, Pakistan was created when the Muslim-dominated parts of India (</a:t>
            </a:r>
            <a:r>
              <a:rPr b="0" i="1" lang="en-US" sz="2400" spc="-1" strike="noStrike">
                <a:solidFill>
                  <a:srgbClr val="000000"/>
                </a:solidFill>
                <a:latin typeface="Freestyle Script"/>
              </a:rPr>
              <a:t>to the west and east</a:t>
            </a:r>
            <a:r>
              <a:rPr b="0" lang="en-US" sz="2400" spc="-1" strike="noStrike">
                <a:solidFill>
                  <a:srgbClr val="000000"/>
                </a:solidFill>
                <a:latin typeface="Freestyle Script"/>
              </a:rPr>
              <a:t>) of Hindu India, were given autono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286000" y="2666880"/>
            <a:ext cx="4267080" cy="2288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ital: Islama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: Ur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igions: Islam 97% and Christian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teracy Rate: 49.9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: Land, Coal, Salt, C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0" y="6488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Flag of  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extBox 6" descr=""/>
          <p:cNvPicPr/>
          <p:nvPr/>
        </p:nvPicPr>
        <p:blipFill>
          <a:blip r:embed="rId2"/>
          <a:stretch/>
        </p:blipFill>
        <p:spPr>
          <a:xfrm>
            <a:off x="73080" y="2432160"/>
            <a:ext cx="2225520" cy="671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6629400" y="2819520"/>
            <a:ext cx="2057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Bodoni MT Black"/>
              </a:rPr>
              <a:t>Badshahi Mos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6705720" y="6248520"/>
            <a:ext cx="20574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Britannic Bold"/>
              </a:rPr>
              <a:t>Vegetable Se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Color Map of Pakistan"/>
          <p:cNvPicPr/>
          <p:nvPr/>
        </p:nvPicPr>
        <p:blipFill>
          <a:blip r:embed="rId3"/>
          <a:stretch/>
        </p:blipFill>
        <p:spPr>
          <a:xfrm>
            <a:off x="-6480" y="-6480"/>
            <a:ext cx="2749680" cy="2451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Map of Pakistan, Southwest Asia"/>
          <p:cNvPicPr/>
          <p:nvPr/>
        </p:nvPicPr>
        <p:blipFill>
          <a:blip r:embed="rId4"/>
          <a:srcRect l="66416" t="40847" r="19497" b="27931"/>
          <a:stretch/>
        </p:blipFill>
        <p:spPr>
          <a:xfrm>
            <a:off x="6629400" y="0"/>
            <a:ext cx="2514600" cy="2209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Flag of Pakistan"/>
          <p:cNvPicPr/>
          <p:nvPr/>
        </p:nvPicPr>
        <p:blipFill>
          <a:blip r:embed="rId5"/>
          <a:stretch/>
        </p:blipFill>
        <p:spPr>
          <a:xfrm>
            <a:off x="225360" y="4395960"/>
            <a:ext cx="2749680" cy="2346120"/>
          </a:xfrm>
          <a:prstGeom prst="rect">
            <a:avLst/>
          </a:prstGeom>
          <a:ln w="0">
            <a:noFill/>
          </a:ln>
        </p:spPr>
      </p:pic>
      <p:sp>
        <p:nvSpPr>
          <p:cNvPr id="58" name="TextBox 14"/>
          <p:cNvSpPr/>
          <p:nvPr/>
        </p:nvSpPr>
        <p:spPr>
          <a:xfrm>
            <a:off x="3352680" y="64008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ush Script MT"/>
              </a:rPr>
              <a:t>Alyssa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Badshahi Mosque, Pakistan Photo"/>
          <p:cNvPicPr/>
          <p:nvPr/>
        </p:nvPicPr>
        <p:blipFill>
          <a:blip r:embed="rId6"/>
          <a:stretch/>
        </p:blipFill>
        <p:spPr>
          <a:xfrm>
            <a:off x="6473880" y="3193920"/>
            <a:ext cx="2444760" cy="1616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Vegetable Seller, Pakistan Photo"/>
          <p:cNvPicPr/>
          <p:nvPr/>
        </p:nvPicPr>
        <p:blipFill>
          <a:blip r:embed="rId7"/>
          <a:stretch/>
        </p:blipFill>
        <p:spPr>
          <a:xfrm>
            <a:off x="6705720" y="4648320"/>
            <a:ext cx="24382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BHISD</cp:lastModifiedBy>
  <dcterms:modified xsi:type="dcterms:W3CDTF">2011-11-10T14:58:58Z</dcterms:modified>
  <cp:revision>22</cp:revision>
  <dc:subject/>
  <dc:title>Slide 1</dc:title>
</cp:coreProperties>
</file>